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chimes.wav" ContentType="audio/x-wav"/>
  <Override PartName="/ppt/media/wind.wav" ContentType="audio/x-wav"/>
  <Override PartName="/ppt/media/image7.wmf" ContentType="image/x-wmf"/>
  <Override PartName="/ppt/media/image6.wmf" ContentType="image/x-wmf"/>
  <Override PartName="/ppt/media/whoosh.wav" ContentType="audio/x-wav"/>
  <Override PartName="/ppt/media/image10.wmf" ContentType="image/x-wmf"/>
  <Override PartName="/ppt/media/bomb.wav" ContentType="audio/x-wav"/>
  <Override PartName="/ppt/media/drumroll.wav" ContentType="audio/x-wav"/>
  <Override PartName="/ppt/media/image5.wmf" ContentType="image/x-wmf"/>
  <Override PartName="/ppt/media/applause.wav" ContentType="audio/x-wav"/>
  <Override PartName="/ppt/media/image9.wmf" ContentType="image/x-wmf"/>
  <Override PartName="/ppt/media/image8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arrow.wav" ContentType="audio/x-wav"/>
  <Override PartName="/ppt/media/coi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9A6-A751-4DDE-AF03-DAF038DA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22D-B9E0-4D8E-B9B3-EAE15CB6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E67-8A12-4FF5-8AF7-B00A5D8A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AB1-D61C-45FD-9B47-43D480EF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BB2C-F521-4528-B954-FFB9E66D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238D-3651-4E4D-92DF-EDF0B3C0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57B0-813E-4D94-AFA5-8CCE3B71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AFA3-DE69-41F4-A64C-E74D804A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32EB-576C-4013-9E20-8320F1B7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B699-64BA-47C4-83CF-A3669D8C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A242-0754-4E8D-A119-21175464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0EA-CA71-4294-82A0-74188C4B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5C28-3BB5-4435-A927-AE012245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EA3C-FFD2-47AA-A07E-A7888FE2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9231-8643-47B0-BB33-FB09D33B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BB83-E7FC-49E6-AC4D-FA4FE47E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7B6A-C18D-4971-B88C-E689F7D1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E7B1-BBF3-4A68-860E-6ECBCD3E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399A-6874-4C9F-8A2A-EEDB5264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0CDD-CD8F-484C-BAA8-6A96A3E4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C8F6-F8AB-47D2-88F3-7B204FC0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CE6C8-11DE-4664-86B9-4C73352B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B3C-7E1F-4682-89C6-0916A656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6582-4794-4B0F-8C89-96AF2843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3741-D8B3-4A18-95BF-37E53CC4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05423-F529-4294-9319-9CB55760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BE46-0982-4FFE-BCD3-FEA8690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067E-CE07-4390-9EAD-673EC57D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CF01-3C7A-461C-85E2-712D897E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7546-3F8C-4E76-9BA8-43CEA5EE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400B4-D957-49AA-808B-ECAF7D47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FC88E9-9228-4236-A5FF-2663BA84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CD168-5E22-41FE-AAB5-5BFF6946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766-972B-49B5-AD44-ABDB0634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DBD0EA-C901-4F26-884D-1F486153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AA650-E1C6-41B8-AA7A-B5613B0D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A5C10-B841-4292-ADD6-96594131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E0BDD-A837-4C10-8B02-3817B0C2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76EAB-AA39-4AF0-AD08-5C72C2DB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EE7F2-038F-475B-A4A9-5A6AE1D0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C22C82-23A3-44E7-A2BE-CEFB53AC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985DB-ED22-493D-B9D5-A62FA481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627E8-9E40-4833-959C-504E2616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679A5-7970-469A-BA78-096E5332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F88-9E27-4578-8C14-1FF782B6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F2F01-3DF3-4305-83C0-794F27CE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17D3F-5FE4-481A-898F-177812D4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8F2DE-D64B-4766-85C2-968F046B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42D0-57DA-4499-9A13-0983F818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0B35B-26A9-449F-AF28-C9E509E0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9B7E4-60FC-4761-9687-3EE4FD8B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0A712-9C78-41D0-9DC9-8BCD9370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C7C0D-A72E-4DE5-93D3-11AA3EDA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75BE8-038E-4038-A365-DB999DCC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9566-5DE6-4379-8966-2EDF799E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630-B30C-4087-A9D3-A314BCA6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73D5C-60B5-4B01-9490-900C1BD5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88294-DDAA-4BBB-B066-18D727EA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FC4B3-C3EA-403B-9A7B-E4B97581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417C1-8A4A-4736-92F2-C390A2C4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31C7C-92DD-4BA5-BFD4-10E53CA7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5728-4FE7-4AC1-A305-6DCE5748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A3B3-8282-475C-B255-313D010E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3B99-D267-457E-A5EE-BDF94161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B10AA-9137-4266-B4D8-A4767865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A299-2340-4B55-9A62-61F4A780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945-1358-4E57-959F-9DEF5AEE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E703B-B4E2-4913-BC6F-1FD11E12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EC49A-1134-4CFC-9356-9B2438E7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70D59-98EA-4117-A1E5-5ABF4CEB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3B9-48B6-416F-8268-ECB0F9F4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8E5-DAE6-4EBF-844D-31CE3C39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F385-C993-4951-98AD-39C0C886FF7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CEC-C4F1-480F-B460-86441C2F88B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31C0-9FC6-45C7-ABAB-1EF3244E4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7F10-8A77-4C5B-8382-B8AB36A63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3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82A9-3BC7-48C4-97F3-100E2DDC6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E406-47D4-4490-B05A-9106DE147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audio" Target="../media/bomb.wav"/><Relationship Id="rId6" Type="http://schemas.openxmlformats.org/officeDocument/2006/relationships/audio" Target="../media/coin.wav"/><Relationship Id="rId7" Type="http://schemas.openxmlformats.org/officeDocument/2006/relationships/audio" Target="../media/chimes.wav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../media/drumroll.wav"/><Relationship Id="rId4" Type="http://schemas.openxmlformats.org/officeDocument/2006/relationships/audio" Target="../media/bomb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03280" y="404640"/>
            <a:ext cx="62136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u manges sainemen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24000" y="692280"/>
            <a:ext cx="85788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>
                        <a:alpha val="50196"/>
                      </a:srgbClr>
                    </a:gs>
                    <a:gs pos="100000">
                      <a:srgbClr val="00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ui, je pense que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>
                      <a:alpha val="50196"/>
                    </a:srgbClr>
                  </a:gs>
                  <a:gs pos="100000">
                    <a:srgbClr val="00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195640" y="1989000"/>
            <a:ext cx="158436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>
                        <a:alpha val="50196"/>
                      </a:srgbClr>
                    </a:gs>
                    <a:gs pos="100000">
                      <a:srgbClr val="00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>
                      <a:alpha val="50196"/>
                    </a:srgbClr>
                  </a:gs>
                  <a:gs pos="100000">
                    <a:srgbClr val="00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140360" y="2276640"/>
            <a:ext cx="331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>
                        <a:alpha val="50196"/>
                      </a:srgbClr>
                    </a:gs>
                    <a:gs pos="100000">
                      <a:srgbClr val="00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ng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>
                      <a:alpha val="50196"/>
                    </a:srgbClr>
                  </a:gs>
                  <a:gs pos="100000">
                    <a:srgbClr val="00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619280" y="3645000"/>
            <a:ext cx="640872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>
                        <a:alpha val="50196"/>
                      </a:srgbClr>
                    </a:gs>
                    <a:gs pos="100000">
                      <a:srgbClr val="00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inement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>
                      <a:alpha val="50196"/>
                    </a:srgbClr>
                  </a:gs>
                  <a:gs pos="100000">
                    <a:srgbClr val="00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411960" y="2852640"/>
            <a:ext cx="2732040" cy="14590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2087640" cy="1725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476360" y="692280"/>
            <a:ext cx="6335640" cy="10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e mang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1849320" cy="1878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484360" y="1628640"/>
            <a:ext cx="5183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eaucoup de fruit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11280" y="3357720"/>
            <a:ext cx="58258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beaucoup de légum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556000" y="4653000"/>
            <a:ext cx="59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t de produits laiti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2e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1039680" cy="17478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2079720" cy="129384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1187280" y="3429000"/>
            <a:ext cx="1963800" cy="941040"/>
            <a:chOff x="1187280" y="3429000"/>
            <a:chExt cx="1963800" cy="941040"/>
          </a:xfrm>
        </p:grpSpPr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1841760" y="3468240"/>
              <a:ext cx="13093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1187280" y="3429000"/>
              <a:ext cx="130932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 txBox="1"/>
          <p:nvPr/>
        </p:nvSpPr>
        <p:spPr>
          <a:xfrm>
            <a:off x="250920" y="0"/>
            <a:ext cx="6481800" cy="25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e ne mange jamais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492360" y="2276640"/>
            <a:ext cx="4608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 viand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492360" y="3645000"/>
            <a:ext cx="4894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 bon b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492360" y="5013360"/>
            <a:ext cx="48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de fri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2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1283040" cy="17337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476360" y="4005360"/>
            <a:ext cx="1706400" cy="1920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395280" y="0"/>
            <a:ext cx="6481800" cy="25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e ne bois jamais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95640" y="4221000"/>
            <a:ext cx="3129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'alcool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67280" y="2133720"/>
            <a:ext cx="309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 coca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260280"/>
            <a:ext cx="4824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e ne mange guère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5400720" cy="2511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684360" y="2924280"/>
            <a:ext cx="478440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de chocol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55640" y="4724280"/>
            <a:ext cx="777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eut être deux fois par jou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de7c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9640" y="765000"/>
            <a:ext cx="81154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t ce que je mange sainemen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39640" y="2349360"/>
            <a:ext cx="8209080" cy="12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'est ce que vous pensez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6T10:31:16Z</dcterms:created>
  <dc:creator>Ella Parkin</dc:creator>
  <dc:description/>
  <dc:language>en-US</dc:language>
  <cp:lastModifiedBy>Ella Parkin</cp:lastModifiedBy>
  <dcterms:modified xsi:type="dcterms:W3CDTF">2002-06-30T11:13:22Z</dcterms:modified>
  <cp:revision>5</cp:revision>
  <dc:subject/>
  <dc:title>Slide 1</dc:title>
</cp:coreProperties>
</file>